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8BF-3E37-4D40-913E-FDF2E4E3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4E1-C6DC-4FE4-B3E8-705CA71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D58-66AA-47A8-8AE0-A73D423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5C8-1A05-4D81-9648-FC6289DF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E02-10C2-4778-9962-1811CCE4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886F-E319-4C04-ACE8-892E8BF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F70E-CFB1-49EA-A88C-EA860B32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E86B-3F7B-4AF3-B076-F48D5777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D232-B3C4-4521-B550-AE3506C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8BE7-66F5-4C55-B4DF-69CDAF9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0ED6-5CED-41BA-B8EA-77F5E58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F4C-0F00-4515-9401-3E73451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FBF4-2B48-42AA-B224-C3F8022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3C3A-3994-487E-AEE5-4A0B82F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5F7-6841-4ACE-BB87-D3D3F37D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5108-E4AB-49AC-816A-D3B4A795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BA8-F1EC-469D-9213-D2A24E50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B083-FAD6-4013-B165-F12E3CA3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456D-D880-486C-B74C-6F0B27C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21B7-382C-4141-9830-92BD4FE5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4F4E-E134-44D7-86FC-9D001B74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5708-56B3-4D53-970F-6EC6FDAF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7D0-F280-4F80-8E76-645A66BD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7E487-C505-493D-85CD-8CEA3DF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964D-2AC5-4E30-A95A-59E452C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AF31-3BC6-4004-8471-C118E8EC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991D-463A-44D5-A709-2F8A701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EB42-7B6A-46BA-B2B2-E0C07AA0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F0FF-9DFD-4423-B722-8AB20899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2065-DA0B-443B-87BC-E27D3FC7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0F1F-15FB-4DA6-8107-E8467D16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20DD-5CD5-4365-978F-92ED7D18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5BE0-75A2-4349-9D65-C53594E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D67-CEE9-437C-9EF2-14EA39F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852E-D734-4284-8F85-422E7AC2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C482-D242-4EDA-AA7C-2C1E9DA1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3193-ECD4-465F-BF2C-E8F1B2A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8FE3-C3BE-489E-AD9C-4AFE80A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82B0-BB12-41FA-B3A3-1814CA41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19D93-B9BD-421F-A197-E89BDD1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55BAA-E458-4CFB-B538-B2B9B6F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2068A-8D93-4A6F-A403-1D170E22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12AC-2B3F-496D-93E7-A1D054AE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8323-B922-4218-9F3B-AAE7E42A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97B-8616-438F-B429-931F41C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16112-BA90-4640-B291-D40EF97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5C38-9EA5-4A65-AA69-8842C80C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FE1E-02D3-4D03-B013-A3E532AC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7ECB8-B89F-4CB0-8861-2576ABAF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6B99-0913-47AF-ADB5-3AB9C4ED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BC8F6-47F0-4808-B0A9-04C9FDC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BCEC-BE2D-4B0F-AD6C-6D246F3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C3BB-776A-4619-8DBD-E927421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F019-D3FF-4609-A167-08AF27F0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7CA4-E643-4633-9435-4083CCE3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82800" y="456840"/>
            <a:ext cx="7704000" cy="9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554-D360-463C-8D8B-CF1126F8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77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92360" y="266652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8280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77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92360" y="4420440"/>
            <a:ext cx="24804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F1B3-E57F-49E8-9FE3-599D6675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741-3A9C-4BFE-A466-E947DFEA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30560" y="442044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31BD-321C-4EE0-B36F-A111D33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280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560" y="2666520"/>
            <a:ext cx="375948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2800" y="4420440"/>
            <a:ext cx="7704000" cy="16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C2C-5AF6-4A62-8B9F-0B84E48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1549-A9F6-4760-8D19-2292339D3FA6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4"/>
          <p:cNvGrpSpPr/>
          <p:nvPr/>
        </p:nvGrpSpPr>
        <p:grpSpPr>
          <a:xfrm>
            <a:off x="203040" y="0"/>
            <a:ext cx="3778560" cy="6858000"/>
            <a:chOff x="203040" y="0"/>
            <a:chExt cx="3778560" cy="6858000"/>
          </a:xfrm>
        </p:grpSpPr>
        <p:sp>
          <p:nvSpPr>
            <p:cNvPr id="49" name="Freeform 6"/>
            <p:cNvSpPr/>
            <p:nvPr/>
          </p:nvSpPr>
          <p:spPr>
            <a:xfrm>
              <a:off x="641160" y="0"/>
              <a:ext cx="1365480" cy="3971880"/>
            </a:xfrm>
            <a:custGeom>
              <a:avLst/>
              <a:gdLst/>
              <a:ahLst/>
              <a:rect l="l" t="t" r="r" b="b"/>
              <a:pathLst>
                <a:path w="860" h="2502">
                  <a:moveTo>
                    <a:pt x="0" y="2445"/>
                  </a:moveTo>
                  <a:lnTo>
                    <a:pt x="228" y="2502"/>
                  </a:lnTo>
                  <a:lnTo>
                    <a:pt x="860" y="0"/>
                  </a:lnTo>
                  <a:lnTo>
                    <a:pt x="620" y="0"/>
                  </a:lnTo>
                  <a:lnTo>
                    <a:pt x="0" y="2445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203040" y="0"/>
              <a:ext cx="1336680" cy="3862440"/>
            </a:xfrm>
            <a:custGeom>
              <a:avLst/>
              <a:gdLst/>
              <a:ahLst/>
              <a:rect l="l" t="t" r="r" b="b"/>
              <a:pathLst>
                <a:path w="842" h="2433">
                  <a:moveTo>
                    <a:pt x="842" y="0"/>
                  </a:moveTo>
                  <a:lnTo>
                    <a:pt x="602" y="0"/>
                  </a:lnTo>
                  <a:lnTo>
                    <a:pt x="0" y="2376"/>
                  </a:lnTo>
                  <a:lnTo>
                    <a:pt x="228" y="2433"/>
                  </a:lnTo>
                  <a:lnTo>
                    <a:pt x="842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207720" y="3776760"/>
              <a:ext cx="1936800" cy="3081240"/>
            </a:xfrm>
            <a:custGeom>
              <a:avLst/>
              <a:gdLst/>
              <a:ahLst/>
              <a:rect l="l" t="t" r="r" b="b"/>
              <a:pathLst>
                <a:path w="1220" h="1941">
                  <a:moveTo>
                    <a:pt x="0" y="0"/>
                  </a:moveTo>
                  <a:lnTo>
                    <a:pt x="1166" y="1941"/>
                  </a:lnTo>
                  <a:lnTo>
                    <a:pt x="1220" y="19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645840" y="3886200"/>
              <a:ext cx="2373480" cy="2971800"/>
            </a:xfrm>
            <a:custGeom>
              <a:avLst/>
              <a:gdLst/>
              <a:ahLst/>
              <a:rect l="l" t="t" r="r" b="b"/>
              <a:pathLst>
                <a:path w="1495" h="1872">
                  <a:moveTo>
                    <a:pt x="1495" y="1872"/>
                  </a:moveTo>
                  <a:lnTo>
                    <a:pt x="0" y="0"/>
                  </a:lnTo>
                  <a:lnTo>
                    <a:pt x="1442" y="1872"/>
                  </a:lnTo>
                  <a:lnTo>
                    <a:pt x="1495" y="1872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641160" y="3881520"/>
              <a:ext cx="3340440" cy="2976480"/>
            </a:xfrm>
            <a:custGeom>
              <a:avLst/>
              <a:gdLst/>
              <a:ahLst/>
              <a:rect l="l" t="t" r="r" b="b"/>
              <a:pathLst>
                <a:path w="2104" h="1875">
                  <a:moveTo>
                    <a:pt x="0" y="0"/>
                  </a:moveTo>
                  <a:lnTo>
                    <a:pt x="3" y="3"/>
                  </a:lnTo>
                  <a:lnTo>
                    <a:pt x="1498" y="1875"/>
                  </a:lnTo>
                  <a:lnTo>
                    <a:pt x="2104" y="1875"/>
                  </a:lnTo>
                  <a:lnTo>
                    <a:pt x="22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203040" y="3772080"/>
              <a:ext cx="2661120" cy="3085920"/>
            </a:xfrm>
            <a:custGeom>
              <a:avLst/>
              <a:gdLst/>
              <a:ahLst/>
              <a:rect l="l" t="t" r="r" b="b"/>
              <a:pathLst>
                <a:path w="1676" h="1944">
                  <a:moveTo>
                    <a:pt x="1676" y="1944"/>
                  </a:moveTo>
                  <a:lnTo>
                    <a:pt x="264" y="111"/>
                  </a:lnTo>
                  <a:lnTo>
                    <a:pt x="225" y="60"/>
                  </a:lnTo>
                  <a:lnTo>
                    <a:pt x="228" y="60"/>
                  </a:lnTo>
                  <a:lnTo>
                    <a:pt x="264" y="111"/>
                  </a:lnTo>
                  <a:lnTo>
                    <a:pt x="234" y="69"/>
                  </a:lnTo>
                  <a:lnTo>
                    <a:pt x="228" y="57"/>
                  </a:lnTo>
                  <a:lnTo>
                    <a:pt x="222" y="54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23" y="1944"/>
                  </a:lnTo>
                  <a:lnTo>
                    <a:pt x="1676" y="194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Freeform 12"/>
          <p:cNvSpPr/>
          <p:nvPr/>
        </p:nvSpPr>
        <p:spPr>
          <a:xfrm>
            <a:off x="203040" y="3772080"/>
            <a:ext cx="362160" cy="90360"/>
          </a:xfrm>
          <a:custGeom>
            <a:avLst/>
            <a:gdLst/>
            <a:ahLst/>
            <a:rect l="l" t="t" r="r" b="b"/>
            <a:pathLst>
              <a:path w="228" h="57">
                <a:moveTo>
                  <a:pt x="228" y="57"/>
                </a:moveTo>
                <a:lnTo>
                  <a:pt x="0" y="0"/>
                </a:lnTo>
                <a:lnTo>
                  <a:pt x="222" y="54"/>
                </a:lnTo>
                <a:lnTo>
                  <a:pt x="228" y="57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560520" y="3867120"/>
            <a:ext cx="61920" cy="81000"/>
          </a:xfrm>
          <a:custGeom>
            <a:avLst/>
            <a:gdLst/>
            <a:ahLst/>
            <a:rect l="l" t="t" r="r" b="b"/>
            <a:pathLst>
              <a:path w="39" h="51">
                <a:moveTo>
                  <a:pt x="0" y="0"/>
                </a:moveTo>
                <a:lnTo>
                  <a:pt x="39" y="5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29ab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7326000" y="6116760"/>
            <a:ext cx="85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24120" y="6116760"/>
            <a:ext cx="360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75680" y="6116760"/>
            <a:ext cx="41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F93-9DC8-4589-8AD0-581B1CF694BA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99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7343640" y="6108840"/>
            <a:ext cx="857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1973160" y="6108840"/>
            <a:ext cx="5313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257680" y="6108840"/>
            <a:ext cx="4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1566-9A88-4C09-BBF7-CFCE21512FC8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4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564-F485-47B4-8F09-431786CF451C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3"/>
          <p:cNvGrpSpPr/>
          <p:nvPr/>
        </p:nvGrpSpPr>
        <p:grpSpPr>
          <a:xfrm>
            <a:off x="0" y="0"/>
            <a:ext cx="2131920" cy="6858000"/>
            <a:chOff x="0" y="0"/>
            <a:chExt cx="2131920" cy="6858000"/>
          </a:xfrm>
        </p:grpSpPr>
        <p:sp>
          <p:nvSpPr>
            <p:cNvPr id="197" name="Freeform 6"/>
            <p:cNvSpPr/>
            <p:nvPr/>
          </p:nvSpPr>
          <p:spPr>
            <a:xfrm>
              <a:off x="0" y="0"/>
              <a:ext cx="1073160" cy="5291280"/>
            </a:xfrm>
            <a:custGeom>
              <a:avLst/>
              <a:gdLst/>
              <a:ahLst/>
              <a:rect l="l" t="t" r="r" b="b"/>
              <a:pathLst>
                <a:path w="676" h="3333">
                  <a:moveTo>
                    <a:pt x="0" y="3132"/>
                  </a:moveTo>
                  <a:lnTo>
                    <a:pt x="0" y="3312"/>
                  </a:lnTo>
                  <a:lnTo>
                    <a:pt x="126" y="3333"/>
                  </a:lnTo>
                  <a:lnTo>
                    <a:pt x="676" y="0"/>
                  </a:lnTo>
                  <a:lnTo>
                    <a:pt x="514" y="0"/>
                  </a:lnTo>
                  <a:lnTo>
                    <a:pt x="0" y="3132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"/>
            <p:cNvSpPr/>
            <p:nvPr/>
          </p:nvSpPr>
          <p:spPr>
            <a:xfrm>
              <a:off x="0" y="0"/>
              <a:ext cx="758880" cy="4624560"/>
            </a:xfrm>
            <a:custGeom>
              <a:avLst/>
              <a:gdLst/>
              <a:ahLst/>
              <a:rect l="l" t="t" r="r" b="b"/>
              <a:pathLst>
                <a:path w="478" h="2913">
                  <a:moveTo>
                    <a:pt x="478" y="0"/>
                  </a:moveTo>
                  <a:lnTo>
                    <a:pt x="318" y="0"/>
                  </a:lnTo>
                  <a:lnTo>
                    <a:pt x="0" y="1938"/>
                  </a:lnTo>
                  <a:lnTo>
                    <a:pt x="0" y="2913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8"/>
            <p:cNvSpPr/>
            <p:nvPr/>
          </p:nvSpPr>
          <p:spPr>
            <a:xfrm>
              <a:off x="0" y="5662800"/>
              <a:ext cx="906480" cy="1195200"/>
            </a:xfrm>
            <a:custGeom>
              <a:avLst/>
              <a:gdLst/>
              <a:ahLst/>
              <a:rect l="l" t="t" r="r" b="b"/>
              <a:pathLst>
                <a:path w="571" h="753">
                  <a:moveTo>
                    <a:pt x="0" y="0"/>
                  </a:moveTo>
                  <a:lnTo>
                    <a:pt x="0" y="12"/>
                  </a:lnTo>
                  <a:lnTo>
                    <a:pt x="538" y="753"/>
                  </a:lnTo>
                  <a:lnTo>
                    <a:pt x="571" y="7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"/>
            <p:cNvSpPr/>
            <p:nvPr/>
          </p:nvSpPr>
          <p:spPr>
            <a:xfrm>
              <a:off x="0" y="5295960"/>
              <a:ext cx="1487520" cy="1562040"/>
            </a:xfrm>
            <a:custGeom>
              <a:avLst/>
              <a:gdLst/>
              <a:ahLst/>
              <a:rect l="l" t="t" r="r" b="b"/>
              <a:pathLst>
                <a:path w="937" h="984">
                  <a:moveTo>
                    <a:pt x="0" y="0"/>
                  </a:moveTo>
                  <a:lnTo>
                    <a:pt x="0" y="3"/>
                  </a:lnTo>
                  <a:lnTo>
                    <a:pt x="901" y="984"/>
                  </a:lnTo>
                  <a:lnTo>
                    <a:pt x="937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0"/>
            <p:cNvSpPr/>
            <p:nvPr/>
          </p:nvSpPr>
          <p:spPr>
            <a:xfrm>
              <a:off x="0" y="5257800"/>
              <a:ext cx="2131920" cy="1600200"/>
            </a:xfrm>
            <a:custGeom>
              <a:avLst/>
              <a:gdLst/>
              <a:ahLst/>
              <a:rect l="l" t="t" r="r" b="b"/>
              <a:pathLst>
                <a:path w="1343" h="1008">
                  <a:moveTo>
                    <a:pt x="0" y="24"/>
                  </a:moveTo>
                  <a:lnTo>
                    <a:pt x="937" y="1008"/>
                  </a:lnTo>
                  <a:lnTo>
                    <a:pt x="1343" y="1008"/>
                  </a:lnTo>
                  <a:lnTo>
                    <a:pt x="126" y="21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"/>
            <p:cNvSpPr/>
            <p:nvPr/>
          </p:nvSpPr>
          <p:spPr>
            <a:xfrm>
              <a:off x="0" y="5357880"/>
              <a:ext cx="1378080" cy="1500120"/>
            </a:xfrm>
            <a:custGeom>
              <a:avLst/>
              <a:gdLst/>
              <a:ahLst/>
              <a:rect l="l" t="t" r="r" b="b"/>
              <a:pathLst>
                <a:path w="868" h="945">
                  <a:moveTo>
                    <a:pt x="0" y="192"/>
                  </a:moveTo>
                  <a:lnTo>
                    <a:pt x="571" y="945"/>
                  </a:lnTo>
                  <a:lnTo>
                    <a:pt x="868" y="945"/>
                  </a:lnTo>
                  <a:lnTo>
                    <a:pt x="0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3"/>
          <p:cNvSpPr/>
          <p:nvPr/>
        </p:nvSpPr>
        <p:spPr>
          <a:xfrm>
            <a:off x="969840" y="86364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8172360" y="281952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2800" y="2666520"/>
            <a:ext cx="770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084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16000" indent="-26568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43460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860120" indent="-15912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860120" indent="-159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7358040" y="6116760"/>
            <a:ext cx="85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1987200" y="6116760"/>
            <a:ext cx="5313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273520" y="6116760"/>
            <a:ext cx="41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9CA-76A7-4147-A64A-E94E1619317B}" type="slidenum">
              <a:rPr b="0" lang="ru-RU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1520" y="1079280"/>
            <a:ext cx="813564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ДО «Вибробетон»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зоперевозки в страны СНГ и Европы и аренда транспор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47" name="Рисунок 10" descr="логотип%20вб1"/>
          <p:cNvPicPr/>
          <p:nvPr/>
        </p:nvPicPr>
        <p:blipFill>
          <a:blip r:embed="rId1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6" descr="Описание: ISO 9001"/>
          <p:cNvPicPr/>
          <p:nvPr/>
        </p:nvPicPr>
        <p:blipFill>
          <a:blip r:embed="rId2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" descr=""/>
          <p:cNvPicPr/>
          <p:nvPr/>
        </p:nvPicPr>
        <p:blipFill>
          <a:blip r:embed="rId3"/>
          <a:stretch/>
        </p:blipFill>
        <p:spPr>
          <a:xfrm>
            <a:off x="3522600" y="2373480"/>
            <a:ext cx="5419800" cy="43401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"/>
          <p:cNvPicPr/>
          <p:nvPr/>
        </p:nvPicPr>
        <p:blipFill>
          <a:blip r:embed="rId4"/>
          <a:stretch/>
        </p:blipFill>
        <p:spPr>
          <a:xfrm>
            <a:off x="1568520" y="3417840"/>
            <a:ext cx="1322280" cy="827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3" descr=""/>
          <p:cNvPicPr/>
          <p:nvPr/>
        </p:nvPicPr>
        <p:blipFill>
          <a:blip r:embed="rId5"/>
          <a:stretch/>
        </p:blipFill>
        <p:spPr>
          <a:xfrm>
            <a:off x="1593720" y="5386320"/>
            <a:ext cx="1306800" cy="7542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4" descr=""/>
          <p:cNvPicPr/>
          <p:nvPr/>
        </p:nvPicPr>
        <p:blipFill>
          <a:blip r:embed="rId6"/>
          <a:stretch/>
        </p:blipFill>
        <p:spPr>
          <a:xfrm>
            <a:off x="1550880" y="2538360"/>
            <a:ext cx="132408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"/>
          <p:cNvPicPr/>
          <p:nvPr/>
        </p:nvPicPr>
        <p:blipFill>
          <a:blip r:embed="rId7"/>
          <a:stretch/>
        </p:blipFill>
        <p:spPr>
          <a:xfrm>
            <a:off x="1598760" y="4406760"/>
            <a:ext cx="1306440" cy="816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1619280" y="861840"/>
            <a:ext cx="4572000" cy="12225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логотип%20вб1"/>
          <p:cNvPicPr/>
          <p:nvPr/>
        </p:nvPicPr>
        <p:blipFill>
          <a:blip r:embed="rId2"/>
          <a:stretch/>
        </p:blipFill>
        <p:spPr>
          <a:xfrm>
            <a:off x="1619280" y="4235400"/>
            <a:ext cx="4308480" cy="9018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5"/>
          <p:cNvSpPr/>
          <p:nvPr/>
        </p:nvSpPr>
        <p:spPr>
          <a:xfrm>
            <a:off x="971640" y="26971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отяжении многих лет ОДО «Вибробетон»  показывает хорошую динамику развития бизнеса. В 2013 году ЗАО «МТБанк» наградил компанию ОДО «Вибробетон» премие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Лучший клиент г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7" descr=""/>
          <p:cNvPicPr/>
          <p:nvPr/>
        </p:nvPicPr>
        <p:blipFill>
          <a:blip r:embed="rId3"/>
          <a:stretch/>
        </p:blipFill>
        <p:spPr>
          <a:xfrm>
            <a:off x="7164360" y="573120"/>
            <a:ext cx="11304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14400" y="1523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омпания ОДО «Вибробетон» готова стать Вашим надежным грузоперевозчиком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Рисунок 10" descr="логотип%20вб1"/>
          <p:cNvPicPr/>
          <p:nvPr/>
        </p:nvPicPr>
        <p:blipFill>
          <a:blip r:embed="rId1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2" descr=""/>
          <p:cNvPicPr/>
          <p:nvPr/>
        </p:nvPicPr>
        <p:blipFill>
          <a:blip r:embed="rId2"/>
          <a:stretch/>
        </p:blipFill>
        <p:spPr>
          <a:xfrm>
            <a:off x="5127480" y="3060720"/>
            <a:ext cx="3781440" cy="274464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"/>
          <p:cNvPicPr/>
          <p:nvPr/>
        </p:nvPicPr>
        <p:blipFill>
          <a:blip r:embed="rId3"/>
          <a:stretch/>
        </p:blipFill>
        <p:spPr>
          <a:xfrm>
            <a:off x="1187280" y="3060720"/>
            <a:ext cx="338472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0" descr="логотип%20вб1"/>
          <p:cNvPicPr/>
          <p:nvPr/>
        </p:nvPicPr>
        <p:blipFill>
          <a:blip r:embed="rId1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sp>
        <p:nvSpPr>
          <p:cNvPr id="289" name="Содержимое 2"/>
          <p:cNvSpPr/>
          <p:nvPr/>
        </p:nvSpPr>
        <p:spPr>
          <a:xfrm>
            <a:off x="2340000" y="2205000"/>
            <a:ext cx="57150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Corbel"/>
                <a:ea typeface="Arial"/>
              </a:rPr>
              <a:t>ЦЕН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Corbel"/>
                <a:ea typeface="Arial"/>
              </a:rPr>
              <a:t>ПУНКТУАЛЬ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5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0" lang="ru-RU" sz="3800" spc="-1" strike="noStrike">
                <a:solidFill>
                  <a:srgbClr val="000000"/>
                </a:solidFill>
                <a:latin typeface="Corbel"/>
                <a:ea typeface="Arial"/>
              </a:rPr>
              <a:t>НАДЕЖНОС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9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70080" y="661680"/>
            <a:ext cx="43797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АШ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РЕИМУЩЕСТВА: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82800" y="45684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ДО «Вибробетон»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68320" y="2060280"/>
            <a:ext cx="7693200" cy="36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дрес производства и офис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Б, Минский р-н, г. Заславль,  ул.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городная, д.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Тел.: +375 17 541-06-70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об.: +375 29 557-64-49 (логист-менеджеры, МТС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об.: +375 29 319-57-60 (логист-менеджеры, VELCOM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Факс: +375 17 544-28-05 (круглосуточно, авто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E-mail: info@vibrobeton.by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Сайт: </a:t>
            </a:r>
            <a:r>
              <a:rPr b="1" lang="en-US" sz="1400" spc="-1" strike="noStrike">
                <a:solidFill>
                  <a:srgbClr val="000000"/>
                </a:solidFill>
                <a:latin typeface="Corbel"/>
              </a:rPr>
              <a:t>www.vibrobeton.by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3" name="Рисунок 10" descr="логотип%20вб1"/>
          <p:cNvPicPr/>
          <p:nvPr/>
        </p:nvPicPr>
        <p:blipFill>
          <a:blip r:embed="rId1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6" descr="Описание: ISO 9001"/>
          <p:cNvPicPr/>
          <p:nvPr/>
        </p:nvPicPr>
        <p:blipFill>
          <a:blip r:embed="rId2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61480" y="1714320"/>
            <a:ext cx="770436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ОДО «Вибробетон»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риглашает Вас к сотрудничеству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Рисунок 10" descr="логотип%20вб1"/>
          <p:cNvPicPr/>
          <p:nvPr/>
        </p:nvPicPr>
        <p:blipFill>
          <a:blip r:embed="rId1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6" descr="Описание: ISO 9001"/>
          <p:cNvPicPr/>
          <p:nvPr/>
        </p:nvPicPr>
        <p:blipFill>
          <a:blip r:embed="rId2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8" descr="People-Shaking-Hands.jpg"/>
          <p:cNvPicPr/>
          <p:nvPr/>
        </p:nvPicPr>
        <p:blipFill>
          <a:blip r:embed="rId3"/>
          <a:stretch/>
        </p:blipFill>
        <p:spPr>
          <a:xfrm>
            <a:off x="5938920" y="3929040"/>
            <a:ext cx="3205080" cy="2928960"/>
          </a:xfrm>
          <a:prstGeom prst="rect">
            <a:avLst/>
          </a:prstGeom>
          <a:ln w="0">
            <a:noFill/>
          </a:ln>
        </p:spPr>
      </p:pic>
      <p:sp>
        <p:nvSpPr>
          <p:cNvPr id="299" name="Содержимое 2"/>
          <p:cNvSpPr/>
          <p:nvPr/>
        </p:nvSpPr>
        <p:spPr>
          <a:xfrm>
            <a:off x="2154240" y="5216400"/>
            <a:ext cx="38052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  <a:ea typeface="Arial"/>
              </a:rPr>
              <a:t>Благодарим за внимание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-17280" y="6488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628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ОДО </a:t>
            </a:r>
            <a:r>
              <a:rPr b="1" lang="en-US" sz="25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Вибробетон</a:t>
            </a:r>
            <a:r>
              <a:rPr b="1" lang="en-US" sz="2500" spc="-1" strike="noStrike">
                <a:solidFill>
                  <a:srgbClr val="000000"/>
                </a:solidFill>
                <a:latin typeface="Corbel"/>
              </a:rPr>
              <a:t>” </a:t>
            </a: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находится в Беларуси, Минской области, г. Заславль (15 км от Минска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5" name="Рисунок 2" descr=""/>
          <p:cNvPicPr/>
          <p:nvPr/>
        </p:nvPicPr>
        <p:blipFill>
          <a:blip r:embed="rId1"/>
          <a:stretch/>
        </p:blipFill>
        <p:spPr>
          <a:xfrm>
            <a:off x="2286000" y="995400"/>
            <a:ext cx="6848640" cy="58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768672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Автомобильный пар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920" y="2060640"/>
            <a:ext cx="7591680" cy="41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втопоезда с объемом грузовых отсеков 90-120 м3 - 18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освал - 3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анипулятор -1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етоновоз -1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рузовой микроавтобус - 2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ссажирский микроавтобус - 1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ронтальный автопогрузчик - 2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илочный автопогрузчик - 5 шт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25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9" name="Рисунок 4" descr="Описание: ISO 9001"/>
          <p:cNvPicPr/>
          <p:nvPr/>
        </p:nvPicPr>
        <p:blipFill>
          <a:blip r:embed="rId1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логотип%20вб1"/>
          <p:cNvPicPr/>
          <p:nvPr/>
        </p:nvPicPr>
        <p:blipFill>
          <a:blip r:embed="rId2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280" y="826560"/>
            <a:ext cx="495756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Автомобильный пар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8080" y="2642760"/>
            <a:ext cx="7591680" cy="34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Рисунок 4" descr="Описание: ISO 9001"/>
          <p:cNvPicPr/>
          <p:nvPr/>
        </p:nvPicPr>
        <p:blipFill>
          <a:blip r:embed="rId1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5" descr="логотип%20вб1"/>
          <p:cNvPicPr/>
          <p:nvPr/>
        </p:nvPicPr>
        <p:blipFill>
          <a:blip r:embed="rId2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" descr=""/>
          <p:cNvPicPr/>
          <p:nvPr/>
        </p:nvPicPr>
        <p:blipFill>
          <a:blip r:embed="rId3"/>
          <a:stretch/>
        </p:blipFill>
        <p:spPr>
          <a:xfrm>
            <a:off x="2340000" y="1776240"/>
            <a:ext cx="6551640" cy="489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640" y="1413000"/>
            <a:ext cx="7704000" cy="13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Автотранспорт и спец. техника хранится на собственной охраняемой базе ОДО «Вибробетон» в г. Заславл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7" name="Содержимое 7" descr="заславль 1.jpeg"/>
          <p:cNvPicPr/>
          <p:nvPr/>
        </p:nvPicPr>
        <p:blipFill>
          <a:blip r:embed="rId1"/>
          <a:stretch/>
        </p:blipFill>
        <p:spPr>
          <a:xfrm>
            <a:off x="2523960" y="3429000"/>
            <a:ext cx="6391440" cy="32828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10" descr="логотип%20вб1"/>
          <p:cNvPicPr/>
          <p:nvPr/>
        </p:nvPicPr>
        <p:blipFill>
          <a:blip r:embed="rId2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Описание: ISO 9001"/>
          <p:cNvPicPr/>
          <p:nvPr/>
        </p:nvPicPr>
        <p:blipFill>
          <a:blip r:embed="rId3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52280" y="1176120"/>
            <a:ext cx="7848360" cy="81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ы также располагаем собственными автомастерскими на территории базы для оперативного тех. обслуживания своего транспор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1" name="Рисунок 10" descr="логотип%20вб1"/>
          <p:cNvPicPr/>
          <p:nvPr/>
        </p:nvPicPr>
        <p:blipFill>
          <a:blip r:embed="rId1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Описание: ISO 9001"/>
          <p:cNvPicPr/>
          <p:nvPr/>
        </p:nvPicPr>
        <p:blipFill>
          <a:blip r:embed="rId2"/>
          <a:stretch/>
        </p:blipFill>
        <p:spPr>
          <a:xfrm>
            <a:off x="4714920" y="285840"/>
            <a:ext cx="709560" cy="6728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заславль6.jpeg"/>
          <p:cNvPicPr/>
          <p:nvPr/>
        </p:nvPicPr>
        <p:blipFill>
          <a:blip r:embed="rId3"/>
          <a:stretch/>
        </p:blipFill>
        <p:spPr>
          <a:xfrm>
            <a:off x="2938320" y="220500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554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Менеджмент качеств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23619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45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предприятии внедрена и успешно функционирует система менеджмента качества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ISO 9001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Содержимое 14" descr="ISO_01.jpg"/>
          <p:cNvPicPr/>
          <p:nvPr/>
        </p:nvPicPr>
        <p:blipFill>
          <a:blip r:embed="rId1"/>
          <a:stretch/>
        </p:blipFill>
        <p:spPr>
          <a:xfrm>
            <a:off x="4572000" y="4272120"/>
            <a:ext cx="3770280" cy="1490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0" descr="логотип%20вб1"/>
          <p:cNvPicPr/>
          <p:nvPr/>
        </p:nvPicPr>
        <p:blipFill>
          <a:blip r:embed="rId2"/>
          <a:stretch/>
        </p:blipFill>
        <p:spPr>
          <a:xfrm>
            <a:off x="5638680" y="304920"/>
            <a:ext cx="3276720" cy="685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Documents and Settings\User\Рабочий стол\Сертификат.jpg"/>
          <p:cNvPicPr/>
          <p:nvPr/>
        </p:nvPicPr>
        <p:blipFill>
          <a:blip r:embed="rId3"/>
          <a:stretch/>
        </p:blipFill>
        <p:spPr>
          <a:xfrm>
            <a:off x="1828800" y="3657600"/>
            <a:ext cx="1981080" cy="271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71640" y="907560"/>
            <a:ext cx="7704000" cy="46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а годы работы наше компания получила много положительных отзывов о работе и зарекомендовала себя как надежного, долгосрочного партнер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12:32:28Z</dcterms:created>
  <dc:creator>XTreme.ws</dc:creator>
  <dc:description/>
  <dc:language>en-US</dc:language>
  <cp:lastModifiedBy>Serge Mozgovoi</cp:lastModifiedBy>
  <dcterms:modified xsi:type="dcterms:W3CDTF">2014-05-12T12:00:31Z</dcterms:modified>
  <cp:revision>95</cp:revision>
  <dc:subject/>
  <dc:title>Компания  ОДО «Вибробетон» Производитель противовесов (комплектующих) для стиральных машин; изделий из бетона: плитки, балок, бортовых камн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